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DA31-DF9B-4217-9C18-7B69E5BB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53736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823B-0957-4F43-AD46-9036E52A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116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89E-7FE1-47CE-936C-0F978E8A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872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180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872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180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9882-1E35-4982-AF49-F73EA7F0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81F1-180B-4BE5-A8F5-77945E04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34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36D5-79D0-40F2-8207-2C0654CC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4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E979-E6C6-48CB-A76B-63006D77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B1E7-2AEE-4FC3-BA8E-8217FD53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8164-C2FF-4E78-A2D6-4EFEFFCA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346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F441-A7E4-4CEE-8E41-FA75990C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1AF5-8CD0-48C6-A95B-F2A266C0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34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510-1296-4955-815D-A3F0EB2C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116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C577-7B18-46E8-820B-E803D20D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99CE-7191-49B0-A8E8-3EE5E81D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280" y="353736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4D3C-558B-4DEF-B222-AF350C18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116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1F9A-E365-40DE-A1FD-4A3FC5F7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872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180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528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872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180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66DC-9209-4B16-BC40-6D9DD31B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EC11F-0821-4975-8BD7-B3EB8493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34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2D1A6-EC69-43BC-8A2A-0E2AB52D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4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D774E-DDAD-4B0A-A362-EE9F5E44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EF210-F5FD-4579-B2F0-7F76519C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70305-CBE1-49E1-AA85-15F4B558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4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B45A-66FF-4F23-A2F3-D729E902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346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D5677-AFD4-4B82-9463-6C03F17B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060EF-85DD-455E-8846-A6B24207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6116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92637-278E-4329-AFE1-60367E8A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30919-1263-453D-83AE-22B3EC7E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5280" y="353736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0501A-AE75-4CCE-A8F9-7B677B3B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6116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4E165-D6BE-45CB-895B-82019502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3872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9180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528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3872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9180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6D59-DCFE-4514-AB97-3A9B1FBD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F0361-D85D-4C47-86B8-95148933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34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5A0A4-9AB5-4C99-9119-2FC775F8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4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FF920-6DCB-4413-9751-C084A034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21A6-4C3C-48AD-A32E-EBA93BEA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4685E-4E62-48F3-9DC7-479860DA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A3084-5144-477F-A018-83B42397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346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11EDB-AA50-41ED-ACA8-6AFF4065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B5A6E-F8A0-4395-A190-3B3D29C1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6116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7F5C5-5391-46D7-A8A4-B3E19218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34467-7F63-4C03-B690-494E8AA3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5280" y="353736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7F7AB-5B90-418F-8BE4-8640F89E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6116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B74C9-00A0-4192-84A7-B43EC808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3872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9180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528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3872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9180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90B0B-C897-4752-AB1E-5C7B3299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A57B-12C9-4D87-92BB-D7E81F01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346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55D6-1E78-48CC-A201-AF5ED344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92A-2058-4248-9DA1-FBCBDE2B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116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CD21-5936-4A4F-ADD4-B6D9A0A1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A441-4163-4871-A4B5-32D746C2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468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3468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4000"/>
            <a:ext cx="225108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6864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5108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51A39-0318-4683-9015-3991BA879E8F}" type="slidenum"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3720" y="585360"/>
            <a:ext cx="814536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3360" y="1670040"/>
            <a:ext cx="852660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 fontScale="89000"/>
          </a:bodyPr>
          <a:p>
            <a:pPr marL="3052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20200" y="5416560"/>
            <a:ext cx="225108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49640" y="5440320"/>
            <a:ext cx="306864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86200" y="5440320"/>
            <a:ext cx="225108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0A9AE-B563-4312-8237-54EE821DB5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468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85280" y="1855440"/>
            <a:ext cx="87346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85280" y="5995800"/>
            <a:ext cx="2251080" cy="4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24240" y="5995800"/>
            <a:ext cx="3068640" cy="4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68880" y="5995800"/>
            <a:ext cx="2251080" cy="4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A8278-3C20-4455-924F-57261D8D4283}" type="slidenum">
              <a: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34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85280" y="5718240"/>
            <a:ext cx="225108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24240" y="5718240"/>
            <a:ext cx="306864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68880" y="5718240"/>
            <a:ext cx="225108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98101-D677-4D57-922B-25441B5B3A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Rammedisof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Dr. Ramachandra H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BBS MS(Ortho) MSc(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Madhava Day-care Fracture Surge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Lower Huth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BHADRAVATHI 57730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www.rammedisoft.c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Mobile 944892189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Age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5640" y="1371600"/>
            <a:ext cx="87472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 fontScale="99000"/>
          </a:bodyPr>
          <a:p>
            <a:pPr marL="416520" indent="-3128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Once the focus is on Age, following screen comes.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6520" indent="-3128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After you enter Age  press Enter once or Twi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038320" y="2073240"/>
            <a:ext cx="5305320" cy="3038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42520" y="-360"/>
            <a:ext cx="8745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7280" y="798480"/>
            <a:ext cx="874548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Complete entries in all needed fields and press Ctrl + S to clos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31640" y="1739880"/>
            <a:ext cx="9001440" cy="3732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Ctrl + D to go to Day-Care billing from customer re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Ctrl + 2 + D to go to In-Patient billing from customer re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160720" y="3024360"/>
            <a:ext cx="4895640" cy="2954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n Rammedisoft first bills are generated. After payment is done a receipt is genera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494080" y="2487600"/>
            <a:ext cx="4743360" cy="3448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85280" y="1233000"/>
            <a:ext cx="8742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Even if a bill is not paid, you can print it. But on the printout it will be mentioned as balan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527280" y="2189160"/>
            <a:ext cx="352764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print a bill after payment is marked, it is showed as paid in the printou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684600" y="2087640"/>
            <a:ext cx="409248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86920" y="1364760"/>
            <a:ext cx="8742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do not decide on payment in a bill, it is not possible to generate lab repor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672000" y="187164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6920" y="1364760"/>
            <a:ext cx="8742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a payment is marked (0.00 payment (Credit Billing) or partly paid or fully paid), it is possible to generate lab repor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184720" y="2232000"/>
            <a:ext cx="3959280" cy="4103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936720" y="3311640"/>
            <a:ext cx="352728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n Rammedisoft first bills are generated. After payment is done a receipt is genera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Even if a bill is not paid, you can print it. But on the printout it will be mentioned as balan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print a bill after payment is marked, it is showed as paid in the printou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a payment is not marked (0.00 payment (Credit Billing) or partly paid or fully paid), it is not possible to generate lab repor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Care Billing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come here from customer registration, the particular patient's bills get opened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a bill has been done, it will open the last bill of the customer.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No bill has been made, it will create a new bi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151080" y="2952720"/>
            <a:ext cx="340056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Log I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Double click the Rammedisoft Icon on Desktop to Sta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can not double click, click once and press Ent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592360" y="2664000"/>
            <a:ext cx="4187880" cy="3311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1920" y="83880"/>
            <a:ext cx="87440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-Care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31280" y="944280"/>
            <a:ext cx="874404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Example of last bill of a custom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47640" y="1440000"/>
            <a:ext cx="878364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17680" y="144360"/>
            <a:ext cx="874368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600" spc="-1" strike="noStrike">
                <a:solidFill>
                  <a:srgbClr val="000080"/>
                </a:solidFill>
                <a:latin typeface="Times New Roman"/>
              </a:rPr>
              <a:t>Day-Care Bill Maker </a:t>
            </a:r>
            <a:br>
              <a:rPr sz="2600"/>
            </a:br>
            <a:r>
              <a:rPr b="0" lang="en-IN" sz="2600" spc="-1" strike="noStrike">
                <a:solidFill>
                  <a:srgbClr val="000080"/>
                </a:solidFill>
                <a:latin typeface="Times New Roman"/>
              </a:rPr>
              <a:t>New Bill Started from Customer Registration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2920" y="11523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When a new bill is created for that customer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Enter 2 times to add a new ite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90480" y="2016000"/>
            <a:ext cx="794880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1600" y="1080"/>
            <a:ext cx="874368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Care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44680" y="1008000"/>
            <a:ext cx="874368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Change the item (particulars) by pressing up and down arrow on key board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521000" y="2160720"/>
            <a:ext cx="6543360" cy="4257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2920" y="70920"/>
            <a:ext cx="87440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Care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31280" y="799920"/>
            <a:ext cx="874404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Tab key to go to Rated field to change the rate, if allowed. If the original rate is in Red colour it is not chageab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Then press Tab key to go to quantity field if you want to change the quant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521000" y="3024360"/>
            <a:ext cx="625608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2920" y="70920"/>
            <a:ext cx="87440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Care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31280" y="799920"/>
            <a:ext cx="874404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To add a new item press  Ctrl and Plus key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720720" y="1343160"/>
            <a:ext cx="7848720" cy="4921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2920" y="70920"/>
            <a:ext cx="87440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Care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31280" y="799920"/>
            <a:ext cx="874404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After you have completed creation of the Day Care Bill, 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 Ctrl + M key to make paym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592280" y="2016000"/>
            <a:ext cx="6256440" cy="3826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85280" y="1440"/>
            <a:ext cx="8744040" cy="7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-Care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31280" y="79200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Making Payments. If amount is correct and you have collected cash just press Enter to complete paym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016000" y="1820880"/>
            <a:ext cx="5791320" cy="4514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Care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there is any concession click 'Referer's Concession' butt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739880" y="2448000"/>
            <a:ext cx="6394320" cy="3698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9600" y="71280"/>
            <a:ext cx="87440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Care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71600" y="93636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Fill fields according to your need and click Calculate button and then click Use button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Corresponding concession will be calculated and goes to receip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303640" y="2448000"/>
            <a:ext cx="530532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Care Bill Maker - Concession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 have given concession of Rs 30 and I clicked Calculate butt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192400" y="2376360"/>
            <a:ext cx="5343480" cy="3924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5640" y="-360"/>
            <a:ext cx="8747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Log I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5640" y="64764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Give your user ID if it is not there alread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Enter and give your password. Then press Enter or Click 'OK' butt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539720" y="1941480"/>
            <a:ext cx="6667560" cy="4610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Care Bill Maker - Concession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When you click the Use button, it asks for reason for concess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Give reason and press Enter ke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146320" y="2984400"/>
            <a:ext cx="5438880" cy="704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Care Bill Maker - Concession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Final concession comes into receipt. Press Enter key to accept the receip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2879640" y="2160720"/>
            <a:ext cx="6134040" cy="4066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Care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After it is done press Ctrl + F12 Key to pri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927000" y="1306440"/>
            <a:ext cx="8032680" cy="4921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At day end take a print out of your summary, and submit cash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936720" y="1224000"/>
            <a:ext cx="7500960" cy="4925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Open Day-care Billing -&gt; Day-care Bill Analysi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2389320" y="1671480"/>
            <a:ext cx="6754680" cy="4592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 - Day-care Bill Analysi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Give Dates by double clicking on the dates. Click 'Get Data'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440000" y="1655640"/>
            <a:ext cx="6975360" cy="4519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 - Day-care Bill Analysi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Bills done by you will be visible in summary as below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3024360" y="1295280"/>
            <a:ext cx="5086080" cy="492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 - Day-care Bill Analysi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inting in one column can be done directly by clicking 'Print' button. If two column printing is needed, click 'Range Print'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36720" y="1655640"/>
            <a:ext cx="7991280" cy="4322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 - Day-care Bill Analysi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n multipage printing tool, click 'Double Column'. And then select 'All' pages. Then click 'Print'. That will print summary in two columns in A4 pag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31640" y="2016000"/>
            <a:ext cx="907740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 - Day-care Bill Analysi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inting in one column can be done directly by clicking 'Print' button. If two column printing is needed, click 'Range Print'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936720" y="1655640"/>
            <a:ext cx="7991280" cy="4322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080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uty Hour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85640" y="1515600"/>
            <a:ext cx="8740800" cy="38768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You can not log in before or after your duty hou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227400" y="2276640"/>
            <a:ext cx="5484960" cy="3627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Closing and Back UP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While closing the program asks for your permission to back up. Press Enter key to  make a back u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2798640" y="2735280"/>
            <a:ext cx="4257720" cy="2028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80640"/>
            <a:ext cx="8737560" cy="7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n-patient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85280" y="734760"/>
            <a:ext cx="8737560" cy="38732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Register patient as usual. Give preexisting register number or file number if already known, as shown below. If it is not known leave it blan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287280" y="1971720"/>
            <a:ext cx="9010800" cy="4076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Rammedisof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Main Scre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224000" y="2013120"/>
            <a:ext cx="6664320" cy="4106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Main Scree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arts of main screen Title , Men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766960" y="2519280"/>
            <a:ext cx="4505400" cy="2629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Ctrl + 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421000" y="1843200"/>
            <a:ext cx="4886280" cy="2800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Module Screen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To add new customer, press Ctrl and + ke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279440" y="2911320"/>
            <a:ext cx="700092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85640" y="-360"/>
            <a:ext cx="874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Add New Custom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79704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Tab key to move from one field to anoth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n the Sex field enter 'f' or 'm' and press Tab Key to go to Age fiel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93840" y="2376360"/>
            <a:ext cx="894384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3:48:51Z</dcterms:created>
  <dc:creator>Ramachandra HM</dc:creator>
  <dc:description/>
  <dc:language>en-US</dc:language>
  <cp:lastModifiedBy/>
  <cp:lastPrinted>2014-02-20T10:35:46Z</cp:lastPrinted>
  <cp:revision>1</cp:revision>
  <dc:subject/>
  <dc:title/>
</cp:coreProperties>
</file>