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582-13A7-42C3-898E-6DEA3DD5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5355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77D-BE3E-4692-8082-D528B701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864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7A7-71A1-4E53-A23C-004FCC94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92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892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92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892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917E-9EF2-4D21-BA05-06725BD4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4C9B-03CC-46D7-98AB-21698F40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5280" y="1515960"/>
            <a:ext cx="872964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8CE2-9483-4CCC-9762-3228CF46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2964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52B1-5BDD-409C-A2F4-89B9AEF7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86DD-F910-4FF2-B31F-80205E19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54A5-5B3D-4403-9ABF-2AD4D017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5280" y="289080"/>
            <a:ext cx="872964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4ADA-4DF7-49B9-9BB3-B16E7A20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24AB-29FB-4D71-BFD0-70720BB9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960"/>
            <a:ext cx="872964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1BB-5B96-4334-8D0D-C0163074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864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F7F7-81AE-488F-89FE-BF8864D9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EC45-5D8F-4CC1-9E1B-B1338A45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280" y="35355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1BB8-D43D-4E69-867C-E056630E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864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385A-B91C-412C-8FEB-6662461E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692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892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528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692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892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8E36-00F8-4FD0-890B-525573AE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07499-8531-4B61-AF3F-FC74AD2F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85280" y="1515960"/>
            <a:ext cx="872964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1DF64-6BBB-4B8F-AA03-9DC54477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2964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E0F73-C590-46B6-BDE5-45D29AAD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BD152-BD7B-4831-B837-20B0B29A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4C9C1-5500-48F0-9F2B-24CED9E5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2964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D02F-BD6E-4875-898A-EFB34BF8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85280" y="289080"/>
            <a:ext cx="872964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9709F-5E5D-4FEB-AB59-ECA53A41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939DD-CE75-45DE-B863-287E309F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864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806FC-5705-45BC-805A-EA9A9A1F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70DFD-841C-4AAB-BA66-CCE8AB98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5280" y="35355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20B50-C682-459B-9884-0DACD894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5864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51067-57C0-4D5C-8D58-5192EB60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3692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8892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528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3692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8892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E335D-A3B0-428B-A4F7-810B1B44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CB499-E31D-4BA9-94E1-AC32615C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85280" y="1515960"/>
            <a:ext cx="872964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8D2FC-5F01-4CA0-A7E7-2C0DD73E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2964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08FA2-9BE7-444E-89E8-DE91D77E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25F-EFAC-4681-A5C0-504CE15A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D9F93-3C7C-4BDF-82D8-A0E2FB87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2604A-7066-47B7-8B00-C9EAB79E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85280" y="289080"/>
            <a:ext cx="872964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893A6-EC59-4F9C-82BA-16BA8185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2CD7B-B007-4EF4-817D-9401C0A5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864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FBFC9-DB81-478F-8E4F-C5819953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34BB0-42B3-44DC-8722-57BC84D6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5280" y="35355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CFAD1-5A48-48EB-9386-5AC16367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5864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735D5-1811-4D75-A430-72DF1D4D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3692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8892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528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3692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8892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80EFF-B88E-4DFB-BD71-0E9C1AE7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F87-5F92-41F7-921C-64521F6D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89080"/>
            <a:ext cx="872964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F33B-6556-4B1F-8E32-73552361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4AD-F2EF-47D2-A4BF-3B1353C2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864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8BF2-56F4-44EE-B6B5-4D53DE71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EB0E-0CB4-4DF0-950B-DDA5B777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960"/>
            <a:ext cx="8729640" cy="4259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4640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6396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4604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7646C-F749-4F42-9681-FC4A240B8E0C}" type="slidenum"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3360" y="585720"/>
            <a:ext cx="81406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3360" y="1669680"/>
            <a:ext cx="8521560" cy="324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 fontScale="89000"/>
          </a:bodyPr>
          <a:p>
            <a:pPr marL="3052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20560" y="5416200"/>
            <a:ext cx="22464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49280" y="5439960"/>
            <a:ext cx="306396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86560" y="5439960"/>
            <a:ext cx="22464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EFF93-2DA0-4E8A-A992-C37F7F6572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85280" y="1855800"/>
            <a:ext cx="872964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85640" y="5996160"/>
            <a:ext cx="224640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23880" y="5996160"/>
            <a:ext cx="306396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68880" y="5996160"/>
            <a:ext cx="224604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04044-CE54-4BFB-8EB5-7FBA49C6727D}" type="slidenum">
              <a: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85280" y="1515960"/>
            <a:ext cx="872964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85640" y="5718240"/>
            <a:ext cx="224640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23880" y="5718240"/>
            <a:ext cx="306396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68880" y="5718240"/>
            <a:ext cx="224604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9E958-549A-4BDB-9171-33E0B2951F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Rammedisof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Dr. Ramachandra H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BBS MS(Ortho) MSc(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Madhava Day-care Fracture Surge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Lower Huth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BHADRAVATHI 57730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www.rammedisoft.c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Mobile 944892189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How to register a new patien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To add new customer or patient, press Ctrl and + ke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279440" y="2911320"/>
            <a:ext cx="700092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5640" y="-360"/>
            <a:ext cx="874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Add New Custom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79704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'Registration First' module as shown below appea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Tab key to move from one field to anoth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n the Sex field enter 'f' or 'm' and press Tab Key to go to Age fiel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22360" y="2773440"/>
            <a:ext cx="898200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Age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85640" y="1371600"/>
            <a:ext cx="87472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 fontScale="99000"/>
          </a:bodyPr>
          <a:p>
            <a:pPr marL="411480" indent="-30780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Once the focus is on Age, following screen comes.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1480" indent="-30780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fter you enter Age  press Enter once or Twi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038320" y="2073240"/>
            <a:ext cx="5305320" cy="3038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70920"/>
            <a:ext cx="87454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New 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31640" y="582480"/>
            <a:ext cx="874584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Complete entries in all needed field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know the case paper number or Register Number enter it in the place marked below. </a:t>
            </a:r>
            <a:r>
              <a:rPr b="0" lang="en-IN" sz="2000" spc="-1" strike="noStrike">
                <a:solidFill>
                  <a:srgbClr val="000000"/>
                </a:solidFill>
                <a:latin typeface="Times New Roman"/>
              </a:rPr>
              <a:t>If you do not know reg no, leave it blan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Ctrl + S to save and clos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87280" y="2638440"/>
            <a:ext cx="911556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How to find the old customer registered in the computer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patient has brought old records and if you get the 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Customer-ID, then do not search. Directly go to billing sec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patient has not brought old customer-ID then you have to search here. Press 'F6' key or click the 'Find' butt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511280" y="4265640"/>
            <a:ext cx="62769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82400" y="12240"/>
            <a:ext cx="873252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Searching for Old Patien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55480" y="791640"/>
            <a:ext cx="8732880" cy="3868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When you click the 'Find' button or press 'F6' key following search window appea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360440" y="1722600"/>
            <a:ext cx="684684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2400" y="12240"/>
            <a:ext cx="873252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Searching for Old Patien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55480" y="791640"/>
            <a:ext cx="8732880" cy="3868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You can enter full name or part of name in the fields as below.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'Alt + Q' keys on key board or Click 'Query..' button twi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087640" y="1655640"/>
            <a:ext cx="6846840" cy="4613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82400" y="12240"/>
            <a:ext cx="873252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Searching for Old Patien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666360"/>
            <a:ext cx="8732880" cy="3868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Following result window appears. Select any one of the results and press 'Enter' key. You will get the results in the customer  registration window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28720" y="1944720"/>
            <a:ext cx="662472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82400" y="12240"/>
            <a:ext cx="873252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Searching for Old Patien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666360"/>
            <a:ext cx="8732880" cy="3868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For example I select Rama Naik and Dashrath Naik. And double click on it, to get the following resul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89080" y="1935000"/>
            <a:ext cx="9720000" cy="1089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From 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Ctrl + D to go to Day-Care billing from customer re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Ctrl + 2 + D to go to In-Patient Registration from customer re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160720" y="3024360"/>
            <a:ext cx="4895640" cy="2954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Log I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Double click the Rammedisoft Icon on Desktop to Sta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can not double click, click once and press Ent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592360" y="2664000"/>
            <a:ext cx="4187880" cy="3311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5640" y="-360"/>
            <a:ext cx="8747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Log I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5640" y="64764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Give your user ID if it is not there alread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Enter and give your password. Then press Enter or Click 'OK' butt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539720" y="1941480"/>
            <a:ext cx="6667560" cy="4610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80960" y="71280"/>
            <a:ext cx="87343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Log I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80960" y="953640"/>
            <a:ext cx="873432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You can not log in, if Caps Lock in key board in 'On'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Keeping Caps Lock on and typing with capital letters is a bad habit. You should never type names with capital lette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4360" y="2519280"/>
            <a:ext cx="570528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080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uty Hour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85640" y="1515600"/>
            <a:ext cx="8740800" cy="38768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You can not log in before or after your duty hou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227400" y="2276640"/>
            <a:ext cx="5484960" cy="3627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Rammedisof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Main Scre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224000" y="2013120"/>
            <a:ext cx="6664320" cy="410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Main Scree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arts of main screen Title , Men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766960" y="2519280"/>
            <a:ext cx="4505400" cy="2629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Ctrl + 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421000" y="1843200"/>
            <a:ext cx="4886280" cy="2800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85640" y="73080"/>
            <a:ext cx="874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5640" y="791640"/>
            <a:ext cx="874728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 fontScale="78000"/>
          </a:bodyPr>
          <a:p>
            <a:pPr marL="324000" indent="-2422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There are three situa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796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1. The patient can be a new patient for the hospital and not registered in the comput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796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2. The patient can be a old patient of the hospital and not registered in this comput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796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3. The patient can be a old patient of the hospital and already registered in this comput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2422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The patients registered in the computer sometimes do not bring their old records and you will not have their 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customer-ID. In that case you have to find their 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customer-ID in this modu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3:48:51Z</dcterms:created>
  <dc:creator>Ramachandra HM</dc:creator>
  <dc:description/>
  <dc:language>en-US</dc:language>
  <cp:lastModifiedBy/>
  <cp:lastPrinted>2014-02-20T10:35:46Z</cp:lastPrinted>
  <cp:revision>1</cp:revision>
  <dc:subject/>
  <dc:title/>
</cp:coreProperties>
</file>