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980-846E-4031-94FD-242414E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0E7-2D2C-4C30-B5A1-5E43A2F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6D3-9C60-4B30-989D-AA720248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4C9-DAF7-41B1-8040-1C5F1508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0062-63F7-4B78-AD34-EBEE0D7B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6764-607F-43EC-BC3A-BF87F04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B77D-7A5C-4EF5-BF46-C1BC7EAA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2196-7A97-4906-9403-0B7224C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CC6E-988C-46F7-AFFB-4C4D29EB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D25-8349-4F74-94D7-FF49898D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4AA-882A-4E1B-B037-E28B3F4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6FB-C65A-40FA-8976-666A79B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5BE9-3949-472D-A22D-5E43514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8F0F-BA3A-4BA3-BC22-AF09898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79C8-77BE-4AB9-B92B-F5DFF38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D5A9-1BB5-4FE6-A7BB-F2AC437A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414-6F3D-42E1-B18E-B9FF28C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E4B9-DBD8-4925-9CA1-1D327C9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EE2D-6241-4439-8124-F15EC62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16B5-A1D8-4EE9-9E3A-AA537B6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6A9E-DAC0-47CC-BE08-F62FDE0D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5C60-C1C5-45EA-A42A-3F2DBBC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509-CC36-4311-AD7F-F9F5EF10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AC6F-000C-4CBA-BE8C-B95AE7D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B8BF-2B84-4067-A687-F3A9EA1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08D9-9A52-487C-AE8D-06F8648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7F15-9DBA-4C23-B647-D0078B9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8638-8652-449B-B38B-350BD0C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A994-CFB7-49D2-B54E-16FD451C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C5BD-4030-47D1-A65C-3D9A85FA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0B56-F786-4703-9817-A52C7F10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0D69-4F96-4836-9F8C-7AF230D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8E17-1363-43A0-BB3E-04B440B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279-8C5B-40CF-9DA8-2F19DD8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353C-FB21-4075-B23A-763C569A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FB9A-7891-4F7D-B40E-44AEEC0F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E459-58AB-4016-ACB1-008B0BA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A441-12D1-4FEA-AB01-1ED2988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B63A-3D65-4A25-B6AD-4136C88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3132-3CCE-420A-AB94-BF68105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09DC-B40E-413A-B3F8-CF1B2BC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0F26-F325-4D5D-9BA9-49AB82E0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8272-6C7E-4404-BDBA-12BB9393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71B-CF91-4FC4-AFD7-8F6C604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4F4-97E6-44AA-B27E-5C56B76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427-A2DC-4D7C-8819-763A961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CCA-A546-4511-9A9C-58F0789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9D4-A015-4CCB-9307-B03D4EA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267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9A45-31F8-4540-A62B-3694F637CDB3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85360"/>
            <a:ext cx="81374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70040"/>
            <a:ext cx="8518680" cy="3246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200" y="541656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640" y="544032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200" y="544032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46A0-CD43-4926-978E-31FE47A1E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440"/>
            <a:ext cx="872676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95800"/>
            <a:ext cx="224316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95800"/>
            <a:ext cx="306072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5800"/>
            <a:ext cx="224316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362F-E1B7-491B-A346-CBC47D024A71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71824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71824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7A43-EBFD-4BEF-88B0-F1F3493AA3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8731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5640" y="122400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he Admission Register modul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From the menu 'File' –&gt; 'In Patient Administration' –&gt; 'Admission Register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From Customer Registration modul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1. Going to Admission Register Directly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come to IP Registration, directly as below. This is usually needed to disharge patients, already admit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84360" y="2592360"/>
            <a:ext cx="6467400" cy="3524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640" y="19368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ischarge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744120"/>
            <a:ext cx="8731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case sheet is brought for IP Billing at the time of dischar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Open Admission Register from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Open the registration entry of that case sheet by searching for the pati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3. You can search for the patient by DOA, byY IP no, by Customer ID and by DOA not discharged patients on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4. Save the entry. Click 'Bills' to go to make 'Discharge Bil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52360" y="3673440"/>
            <a:ext cx="7560000" cy="165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Admission Register 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Registration from customer reg or click the 'IP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409760" y="2519280"/>
            <a:ext cx="64389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Going to IP Registration 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no IP no has been alloted to that customer ID, program gives a message as below and if you click Yes, a new IP no will be cre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16000" y="2448000"/>
            <a:ext cx="820764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640" y="229680"/>
            <a:ext cx="8731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2920" y="1008000"/>
            <a:ext cx="873108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s from the previous example, if you click yes, following message comes. It gives today's date in YYMMDD form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n you can just type over it with a new 'In Patient number'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o to the begining of the date – by clicking 'Home' button and type the register number of the patient to create a new 'In Patient number'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5360" y="1944720"/>
            <a:ext cx="71182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31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et us assume that I typed '5678-B-' before the date and clicked 'Ok' button or pressed 'Enter' key. The patient from customer registration is admitted as below. You have to click Ctrl + S key to save the rec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button, named 'Bills' appears on saving. Date of discharge will be marked as 1-1-1900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4360" y="3162240"/>
            <a:ext cx="9087120" cy="173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Going to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o IP Bill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Directly from menu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From Admission Regis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1. Going to IP Bill Maker 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irectly from menu 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314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o IP Billing directly through the menu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'File' –&gt; 'Billing' –&gt; 'IP Billing' –&gt; 'IP Bill Maker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is is usually used, when an already registered patient needs to be discharged, and to be given 'Discharge Bill' or 'IP Bill'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714680" y="2519280"/>
            <a:ext cx="61322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IP Bill Maker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1280" y="3456000"/>
            <a:ext cx="8874360" cy="2803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lick the button 'Bills', it will open IP Billing module. Short cut 'Ctrl + D'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double click on DOD (Date of Discharge), todays date and time will come as date of dischar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7600" y="1440000"/>
            <a:ext cx="90867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not marked (0.00 payment (Credit Billing) or partly paid or fully paid)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IP Bill Maker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280" y="3456000"/>
            <a:ext cx="8874360" cy="2803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Soon after the admission, you can issue 'Advance' bill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the date of discharge is marked, you can issue 'Discharge Bill' or 'IP Bill'. (And still can issue Advance Bill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17600" y="1440000"/>
            <a:ext cx="90867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8731440" cy="5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6000" y="1152000"/>
            <a:ext cx="8731080" cy="386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ome here from Admission Register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If you have not made any bill for this patient,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. If you have not discharged the patient, IP Bill Maker opens with 'Advance' billing status.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. If you have dicharged the patient, the IP Bill Maker opens with a new IP Bill or Discharge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If a bill has been done, IP Bill Maker will open the last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5280" y="146160"/>
            <a:ext cx="8744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1520" y="885960"/>
            <a:ext cx="87440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go to IP billing module from In-Patient registration by clicking the button 'Bills'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lready a bill has been made for that customer, this module will open the last bill of the customer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024360" y="2849400"/>
            <a:ext cx="3400200" cy="168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here from Admission Register and no bill has been made and you have not discharged the patient, it will ask whether you want to issue Advance Payment Bill ? As shown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52720" y="2952720"/>
            <a:ext cx="60483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6000" y="1152360"/>
            <a:ext cx="8731080" cy="557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lick 'Yes' you get an option to enter the amount of advance to be entered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ver type on the amount of advance and click 'Enter' key to complete the process.</a:t>
            </a:r>
            <a:br>
              <a:rPr sz="2700"/>
            </a:br>
            <a:r>
              <a:rPr b="0" lang="en-IN" sz="2000" spc="-1" strike="noStrike">
                <a:solidFill>
                  <a:srgbClr val="000000"/>
                </a:solidFill>
                <a:latin typeface="Times New Roman"/>
              </a:rPr>
              <a:t>You can see customer ID and IP no and Name etc have come here automatically and are not editable (r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89080" y="2016000"/>
            <a:ext cx="665964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5640" y="19368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1640" y="72072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t directly goes to payment (receipt) section. Click 'Enter' or 'Ctrl + S' to complete. If it is not 'Cash' payment, select other options. Otherwise all other options wont work here. Click 'Save' to complete the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0720" y="2376360"/>
            <a:ext cx="890928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640" y="15732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 - Print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936720"/>
            <a:ext cx="8731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lick 'Send to Print' button or press Ctrl + F12 keys to pri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152360" y="1670040"/>
            <a:ext cx="70963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dvance payment for services – bill cum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82920" y="2098800"/>
            <a:ext cx="3276360" cy="3876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t day end take a print out of your summary, and submit ca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19320" y="1622520"/>
            <a:ext cx="73436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pen IP Billing -&gt; IP Bill Analys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97080" y="1728720"/>
            <a:ext cx="7343640" cy="384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 This applies to both OP and IP bill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94080" y="2487600"/>
            <a:ext cx="47433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Dates by double clicking on the dates. Click 'Get Data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871640" y="1757520"/>
            <a:ext cx="6039000" cy="299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ills done by you will be visible in summary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024360" y="1295280"/>
            <a:ext cx="508608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681200" y="2087640"/>
            <a:ext cx="6419880" cy="3790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multipage printing tool, click 'Double Column'. And then select 'All' pages. Then click 'Print'. That will print summary in two columns in A4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31640" y="2016000"/>
            <a:ext cx="907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losing and Back UP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ile closing, if the program asks for your permission to back up, Press Enter key to  make a back 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798640" y="2735280"/>
            <a:ext cx="42577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5280" y="12330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527280" y="2189160"/>
            <a:ext cx="35276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yment in a OP bill is not decided, it is not possible to generate lab reports from that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111640" y="1944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marked (0.00 payment (Credit Billing) or partly paid or fully paid), it is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84720" y="2232000"/>
            <a:ext cx="395928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36720" y="331164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8731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122400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make a IP bill of a patient  ONLY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after first registering him or her in Customer Registration </a:t>
            </a:r>
            <a:r>
              <a:rPr b="1" lang="en-IN" sz="2700" spc="-1" strike="noStrike">
                <a:solidFill>
                  <a:srgbClr val="000000"/>
                </a:solidFill>
                <a:latin typeface="Times New Roman"/>
              </a:rPr>
              <a:t>and then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registering him or her as In-Patient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-Patient registration is done in 'Admission Register', which is also called 'In Patient Registration' Modu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6-26T15:25:47Z</cp:lastPrinted>
  <cp:revision>1</cp:revision>
  <dc:subject/>
  <dc:title/>
</cp:coreProperties>
</file>